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E2E-6F1A-4A8A-B966-5508B6F4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B19-975F-49CB-A21F-8A60018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27B-BC88-4D60-AE7F-8B11CAE1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173-BA8D-468C-A9CF-3BDFCA41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D3B2-B137-4F2F-9027-C023A862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40CC-D832-4B8D-AF21-0D23A8E9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A89-A4C7-4AA7-B909-87D46004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028C-0B86-4974-858F-638AD21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D50D-3A29-4EC8-8219-2B9ACE1D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E4D4-B22C-40F7-95F9-60A01E0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ED96-7ABA-4239-9289-28A2DE0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0BC-2EFD-4655-BD2E-F96C850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201D-019E-4E8E-8223-C94BF71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339C-3705-4BD7-B890-F1C43A6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2311-ECDD-4E82-8BEE-8E3F08A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8265-FB2C-4177-97AE-23A7812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CF0-A3E3-4F4A-A672-A93CA0B2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92A-DC32-4FE2-B171-60E3A44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69A-B631-4DB3-8B78-0C62C15D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1F3-89F6-4446-9481-334AFBB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753-2079-4CE7-B184-B6C3EAC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96D-C60F-47AA-98EF-AC96660E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657-9661-49A9-A259-533971C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A77-EF75-4957-BE91-50E5CE3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00F2-EB5A-4FA0-B2C7-564B732C5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B82E-1E9C-4FFB-8C74-407D168F4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6 -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1:21 – 2: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Last Les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erna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ostles Cal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er, Andrew, James, and John –to be fishers of 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nts Early In Jesus’ Minist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wer of the Savior – Mk.1:21-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over the demonic world – 1:21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rment of the possessed man 1:21-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cknowledgement by the demon -1: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manding power of Jesus -25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mazement of the crowd – 27-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over the fever (Peter’s mother-in-law is healed) – 1:29-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0820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981080" y="7621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Galil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esus Tours Galil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aching and Healing – Mk.1:35-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ynagogues were open to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, His critics will become more v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healings will be criticized as “work” on the Sabbath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miracles will be explained as Satanic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esus Heals a Le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itiful man kneels to Jesus – Mk. 1:40-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is moved with compa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pediency of Jesus’ command for the healed man not to tell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to teach the soul is greater than the need to heal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to avoid being a side-s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for priv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for room to be alone with His disciples and with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wer over Par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ing a paralytic in Capernaum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k.2:1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Jesus announce a man’s forgiveness of si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awed reasoning of the Pharis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of of Jesus’ right to exercise the divine position of forgiveness was in the miracle of healing the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all of Matthew (Lev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lican (tax collector) collected tribute money for the Roma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despised occupation for J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hew is called to work for Jesus –Mk.2:13-17; Matt.9:9-13; Lk.5:27-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hew holds a feast and invites Jesus and some publi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sus sees it as an opportunity to influence the salvation of si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harisees thought Jesus should not have any associations with publicans and si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Jesus participating in sin and condoning it? N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Matthew holding a “feast”, or a “drinking party”? – A fea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criticism was that Jesus was eating with publicans and si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t was not the act itself (eating) that was questionable to the Phari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an issue of WHOM Jesus was eating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Jesus should never eat with sinners, would He have been able to eat with the Pharise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real problem was in the lack of mercy in the heart of the Phari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8:03:42Z</dcterms:created>
  <dc:creator>Terry W. Benton</dc:creator>
  <dc:description/>
  <dc:language>en-US</dc:language>
  <cp:lastModifiedBy>Frank D Vines</cp:lastModifiedBy>
  <dcterms:modified xsi:type="dcterms:W3CDTF">2006-05-03T16:41:20Z</dcterms:modified>
  <cp:revision>4</cp:revision>
  <dc:subject/>
  <dc:title>Sir, We Would See Jesus</dc:title>
</cp:coreProperties>
</file>